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63A61-C6ED-40AF-835A-230B1FC765A7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406E1-7B57-43D2-9A70-905D21DABA6E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A57E0-9741-46AB-A753-71E44653ED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938D6-E20D-4FCC-9229-9889B5BDE3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53AE4-B4EA-4C81-9E2F-A90E1CDB20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EF6F-C1A3-4F73-B123-605061F8BC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C7A92-4AC5-4008-A224-7867EE478F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1698B-2EF8-4F38-BF4C-D85ECFF2B2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EE08C-1632-4CB8-B1B4-0F5A2F10F03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E08E1-ABBE-407F-B502-83F349300F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3F16D-B3DC-4BC2-8CB4-182D0B24714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134E9-F6B0-4770-8793-29CA63B067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A7885-EA02-4F5E-8D5E-0AE0329581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917B5-0C77-4B44-9115-5AAC5570FC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0AF67-D2C6-49C3-B4CD-4AD55886D4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4E20A-A70D-4CD1-91C0-50E7270F09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B634-AB4A-4055-94F0-981697571B5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0710-8177-40EB-B6F1-B1EFCF53EE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BD5AA-D4C7-4E63-8C36-5AAE9DECDD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2E558-5996-4A8D-A1F3-04578C69AA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E617B-FA19-4899-B190-1730D34D96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34075-C519-4560-95C0-0F0655D3729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AA3E-23C9-482E-918C-DA6F9ED5FC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FF27-31B2-4D94-AE58-78E9873467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0E089-D4AD-40F3-9F06-9186CC61E2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A1126-97F1-4485-805E-B1891D0B66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BCE2B-D6A8-47FF-8FDC-7CCF57B686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8CA7-E34D-4B40-ABB7-D0CBF888273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6C55E-EFD9-4296-9452-587FA2B844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1436F-5510-42C0-9898-F173E7A89F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B5840-DB53-4153-802A-5BD8F07CCE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A5194-C5D3-4C73-80CB-4EEA69C841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89239-4F47-4216-A9FB-3C3FA6461E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D25-F1A8-49FF-B2DD-1C197354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1A5-00B3-454A-A808-2CDAB9E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48D85-4436-41FA-B7E2-DCF85FC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553ED-F2AF-4905-82EC-AC4EAAE6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9B7BB-9DE0-41FE-8181-E1B793F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E14F3-EC70-4E42-9CAA-D88CB13F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FA145-1290-457D-BF05-293DF65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59FA5-A6EE-43FD-AA77-209D1D3B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E252E-F1E5-4E19-A33E-91FE446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34E75-45F4-4935-AC7F-D641AA3B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54B97-3CCA-4F82-8C28-0C96D6B8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80884-5475-4308-BD1C-630B9E80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44C-A0D7-4C5D-BB6A-65091BB4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4F691-ABF6-426F-90F0-823E87E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7C0CF-F0F8-4D25-B983-245F7343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6A2F1-7D58-499D-B9A5-00D4D67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0F83C-10E2-4E16-9C5C-A5B3460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ABB4B-C2C7-4177-A66C-27CEC05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C1301-9FD2-40DC-8304-939D3C8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5F5C2-5CA1-4B60-97BD-8EB9382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74107-C1FE-42A1-8741-40BEBC7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439FF-10D0-424C-A570-C3314A84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DD7F4-71D7-4936-91F9-45A42259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144-2214-468F-A651-1AAFDEA4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21460-1BC4-473B-814B-2BEE5982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527D72-3995-405C-816A-108C5422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88180F-2EC8-4890-8C03-3BA43B4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6EDBF-67FA-4076-B7D8-39EABC2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056CD5-B566-4F71-860D-732AF7A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5FE136-BC96-4AD1-979F-C74B2216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32E86F-778E-4907-A5FA-690900B2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B9206-FBC0-4981-BCEA-4EB6CE0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FFB65B-67D4-4B80-9343-562823DF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E1C05B-5840-4354-BCAE-77E0F47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7B0D-7AA0-4C88-A9F8-7ECB5AC91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5408DA-18C2-4D09-93FE-72DB52D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4CB1FB-506F-4B85-BD88-F945A1B9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E9322A-B5AB-4485-A19D-D9287A58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34CB1-9EE5-408F-8DD7-AFC9A1A5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5EC02-3333-4CC6-BBCF-B1B2BEA3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6B0AB-27BF-49EB-84C5-F26D5FD1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F96AE-33BD-41EC-8434-B05958C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E290-81A4-453C-91E5-0A464195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ED0B8-64AA-486E-8672-05762D2D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AFEB3-CF32-4C8D-ADC4-FB69952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BDB2E-B618-40AB-9FC2-62089B1D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50E8B-5F27-4663-AD93-8CD746A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8CCBA-6739-445A-9650-A0CF5F9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C6F8E-FBD3-44EE-83BB-11DFA83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D9091-DC11-4CA8-B9A8-749C421B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C5B0B-3778-4E0D-A48B-C89067B9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4A19C-3A41-4208-98C9-6C7AA10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428E2-5B41-4F52-A1D7-38D0874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427C-2BC5-4E4C-8133-93E160A5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6150-0CF7-4685-B8CD-8BCA577D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EC33B-9A13-4B7B-A5D6-5638095E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846-811E-420A-9621-02418537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3257-55C5-434D-A6A9-CD137324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DBBA-00FE-4ED2-9C26-F84A3E28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BACF1-B6A6-4AFA-B097-BFDEEF9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47A17-9030-4616-BC8F-D4F3388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F00E0-E59A-439C-AA00-02AC9A9FB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0FCF8-18EA-48A6-BC4C-D6AFD9165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859EC-AED7-4983-9C98-78953D3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50C89-60A9-47E7-9A58-B991AC5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491C2-3270-42FB-AE53-BFC297A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45E15-E0C5-4A6C-9938-4603F70D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BC0-23CA-4FC0-AAEB-70F3519F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9A505-93BD-41E5-9F2C-FEBB85D5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718FE-91F8-419C-BF4E-3A2D0FAE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E488E-F415-4036-BED5-C7E19EA8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C3EFB-3181-4923-B4B4-05C1DB91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4C3B6-53A8-4974-A24A-45E62DE0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BC918-44C1-4CAB-BCEE-AD9B3D8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5CE1D-EFF5-4A53-AC3B-EEEA1B583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4E105-9E4D-4E4B-B6C1-4C441E10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71EEA-A717-400A-82CD-BEAE10CE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1B7C6-0CC8-4FF5-94C4-4745FD0B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237-E5D9-45E8-AA93-998DDDB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801ED-2CBB-4640-8D18-38E6CD4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51F6B-2633-4B29-97CF-E43FA4C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E92EC-8279-4FD8-924F-776E6BD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1B736-20F1-41AA-A4D3-92D82CA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0E9BD-F243-47DD-A170-624E93B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CE32B-E9B9-486C-9AD0-8CCF616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9F323-A12D-4DB9-B88B-06F9BB3C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8BB20-A180-4FF6-A7E2-DF031412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127DF-2B2B-4132-BAFD-6AECC4EA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22BCE-994C-4000-8936-3E0291FF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4AA-7AE7-40B8-A182-736CB09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46AD3-D626-4BF0-AA19-FCF1BA4B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63C97-C0FA-4195-89E9-FB889FC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3217A9-DE61-467C-9F73-21A0ED35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6914E7-BA2F-4873-972E-8E3B552B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CBD2A-3E2B-4707-BDCC-C680CF9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2D429-97CD-4BE1-A30F-236C426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4C0E6-7B71-48E3-B928-8191C8B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BA2AA-7E79-4343-AFBE-9DAE640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E898D-C0A6-4CFE-AF87-884891F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853882-5E8A-4BF6-A743-07E44C64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422-C319-429E-88AD-5EB74A24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BEEBE-A2E1-4257-9CF3-ED570D9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1EEA05-46C2-4551-BD3D-EC2A0601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0526F-8985-4598-B661-BAB8E2E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DB3A4-A9EF-4D7E-99CC-DBFCC0C6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DDC79-0269-4311-B236-442C2A72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B78B19-6C3B-4A82-97D6-75245A03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24AFC-EB6B-48D9-BF56-65DB2FDB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778E8-DC1B-434E-A891-C1E391EA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21D4F-01AA-4F9E-AD8B-C6CBB0E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19932-E695-4ACC-9CBE-E745E4F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649-540A-4811-B639-9807320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F351C-288A-4599-AF78-822F69E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7191F-CC9C-408B-9829-C9A7865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FC0438-1CA2-4B94-ADE8-54410BDA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411BB-A65F-42CC-9B96-20AD24A9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9F1C9-AADA-40C9-8D45-19470130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B73E2-09D7-4D09-B049-35DF8CBC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11E9E-DBFF-4725-BCA4-5E3BFC81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05829-7DAD-41AC-9B39-D8F2482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C57D5-67AD-4B2A-8E78-26DC7A05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13892-E532-4A8E-83DD-0933CB0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ECE-1CF9-4C01-832A-531A1FBE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2CB94-9E3E-425E-854D-A9CD378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BC3B22-97B5-4787-B772-255C1BC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D14353-CAEB-4794-AC51-7C2EB2E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87654C-6F24-4EFE-BF5F-F993B853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C5F1D-1931-4131-8A1F-3D8BA210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149D79-C481-4615-A08C-1E675E3E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82BD4-171A-4482-8B94-9BFE7F7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21570-10EA-4007-94F2-285C7C7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6E25D1-E608-439D-9B0E-267AAED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E62CDF-C463-4419-ACDE-CA54142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71E-96AA-4E40-A7C3-D8BAA0C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D2DC60-56BA-456A-859D-6EBE8C8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94845-7B3F-4BA5-86D1-674A3624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36040A-DEE4-4858-B2DD-958B53C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0CCC1-0877-4756-A7D5-D859F63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09786-6799-42A9-850C-85FD4B1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11B0E-1A7F-4B7D-A502-CD205731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A8D832-3DC5-43FA-9E43-C89BCEB6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15381-0FE7-46B1-A51D-12814073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C3699-94AC-4F39-AAD7-7F1E106D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02C59-3B15-4819-8782-58319F7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C85-6593-490A-9803-5FA2477259B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879-6F6D-4911-8D78-12DC5E01419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230-A9A7-45DB-A621-56CAEA5FA93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BE1C-06C8-4A87-AACE-85407B20B49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1D2F-4B53-4EF7-8F3D-A85E66B6A42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7"/>
          </p:nvPr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6667-7F64-4399-94F2-2F84FD75B5E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5DC0-F1A2-4BC6-9967-E30DA2A009B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DA45-CA76-4B1B-B5CB-0C527D9B493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744-34BF-4287-9517-767C20FD38D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718-F5DB-4389-9913-15B2288A963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AF30-B374-4264-BD28-2D19A184F6E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E68-C83D-428D-B6BD-12D0EE1ACC1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WEB DEVELOPMENT &amp; DESIGN FOUNDATIONS  WITH  HTML5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09480" y="4114440"/>
            <a:ext cx="792504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Chapter 2</a:t>
            </a:r>
            <a:br>
              <a:rPr sz="2800"/>
            </a:b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77D0-C2ED-4926-BCA1-6EDF6D51408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818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EXAMPLE  XHTML  WEB  PAG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1000"/>
          </a:bodyPr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 PUBLIC "-//W3C//DTD XHTML 1.0 Transitional//EN"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http://www.w3.org/TR/xhtml1/DTD/xhtml1-transitional.dtd"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 xmlns="http://www.w3.org/1999/xhtml" lang="en" xml:lang="en"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itle&gt;Page Title Goes Here&lt;/title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meta http-equiv="Content-Type" content="text/html; charset=utf-8" /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ody text and more XHTML tags go here ..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B44-60FF-403A-AE8F-AF35BBC6FB4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818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EXAMPLE  HTML5  WEB  PAG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9907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3000"/>
          </a:bodyPr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 lang="en"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itle&gt;Page Title Goes Here&lt;/title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meta charset="utf-8"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ead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ody text and more HTML5 tags go here ..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ody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7BEB-E58A-4259-BF5C-70059A4DAF1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82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EAD &amp; BODY SECTION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3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Hea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e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tains information that describes the Web page document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ad section info goes her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Body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e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tains text and elements that display in the Web page docu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ody section info goes her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A630-44DF-4EED-82CC-8B3543CDD66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ITLE  ELEMENT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META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6" name="Picture 1" descr="Figure2"/>
          <p:cNvPicPr/>
          <p:nvPr/>
        </p:nvPicPr>
        <p:blipFill>
          <a:blip r:embed="rId1"/>
          <a:stretch/>
        </p:blipFill>
        <p:spPr>
          <a:xfrm>
            <a:off x="228600" y="380880"/>
            <a:ext cx="5172120" cy="3730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Figure2"/>
          <p:cNvPicPr/>
          <p:nvPr/>
        </p:nvPicPr>
        <p:blipFill>
          <a:blip r:embed="rId2"/>
          <a:stretch/>
        </p:blipFill>
        <p:spPr>
          <a:xfrm>
            <a:off x="2362320" y="4222800"/>
            <a:ext cx="6332400" cy="176220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790C-D504-4F41-AD0F-53E91E98048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0" y="1828800"/>
            <a:ext cx="4191120" cy="2743200"/>
          </a:xfrm>
          <a:prstGeom prst="rect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HE HEADING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28240" y="2133360"/>
            <a:ext cx="493236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1&gt;Heading Level 1&lt;/h1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2&gt;Heading Level 2&lt;/h2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3&gt;Heading Level 3&lt;/h3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4&gt;Heading Level 4&lt;/h4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5&gt;Heading Level 5&lt;/h5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6&gt;Heading Level 6&lt;/h6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4000" cy="464832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6B82-6300-48D2-91DA-C00836F66D6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ARAGRAPH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18960" y="16761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aragraph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p&gt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paragraph goes here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p&gt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Groups sentences and sections of text togeth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onfigures a blank line above and below the paragraph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B403-2A2E-44E2-A880-A4EF4FC6A4B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LINE BREAK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371600"/>
            <a:ext cx="8337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e Break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tand-alone, or void ta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085760" indent="-2592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syntax: &lt;br /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lvl="2" marL="1085760" indent="-2592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ML syntax: &lt;br&gt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goes he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r&gt;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tarts on a new line…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auses the next element or text to display on a new l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FBC-40EB-4E6A-936E-0DC48DF0B22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BLOCKQUOTE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66320" y="1447560"/>
            <a:ext cx="7194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Blockquote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dents a block of text for special emphas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lockquote&gt;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…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goes here…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lockquote&gt;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7D7-8D07-47B1-925C-BAC8158DFDC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914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dicate the context and meaning of the tex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HRASE EL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5" name="Table 1" descr=""/>
          <p:cNvPicPr/>
          <p:nvPr/>
        </p:nvPicPr>
        <p:blipFill>
          <a:blip r:embed="rId1"/>
          <a:stretch/>
        </p:blipFill>
        <p:spPr>
          <a:xfrm>
            <a:off x="115920" y="1616040"/>
            <a:ext cx="8931240" cy="4863960"/>
          </a:xfrm>
          <a:prstGeom prst="rect">
            <a:avLst/>
          </a:prstGeom>
          <a:ln w="0">
            <a:noFill/>
          </a:ln>
        </p:spPr>
      </p:pic>
      <p:sp>
        <p:nvSpPr>
          <p:cNvPr id="646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F730-8D03-40A1-A190-A4CE4869049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ML LIS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82880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scription List</a:t>
            </a:r>
            <a:br>
              <a:rPr sz="4000"/>
            </a:b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formerly called a definition lis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5ACC-937C-464C-A13F-A878E57624C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LEARNING OUTCOM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144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In this chapter, you will learn how to ..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HTML, XHTML, and HTML5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the markup language in a web page docu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Use the html, head, body, title, and meta elements to code a template for a web pag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the body of a web page with headings, paragraphs, line breaks, divs, lists, and blockquo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text with phrase element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special character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Use the anchor element to link from page to pag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reate absolute, relative, and e-mail hyperlink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de, save, and display a web page docu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est a web page document for valid syntax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1A3-F585-4FF5-A641-DCF5C7DF26D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isplays a bullet, or list marker, before each entry in the list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ul&gt;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ains the unordered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ype attribute determines the type of bullet poi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fault type is disc (but depends on the browser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li&gt;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ains an item in the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2D5C-32DB-42CF-ACAD-973EC583F9E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ORDERED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u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TC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I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HTT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FT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u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5410080" y="1968480"/>
            <a:ext cx="2324160" cy="200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63AC-A816-40E8-870E-3F50D390A82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09120" y="12189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isplays a numbering or lettering system to itemize the information contained in the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ol&gt;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ntains the ordered lis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ype attribute determin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numbering scheme of list, default is numer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li&gt;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ntains an item in the lis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8B74-2857-44EB-89D8-5DF2C396A8A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ORDERED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o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Apply to school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Register for course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Pay tuition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Attend course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o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92440" cy="1942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6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BCBF-797C-4E36-8FF6-C5D6970F69F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ESCRIPTION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Useful to display a list of terms and descriptions or a list of FAQ and answer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l&gt;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the description li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t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a term/phrase/sent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s empty space above and below the tex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d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a description of the term/phrase/sentenc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3968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ndents the tex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103968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onfigures empty space above and below the tex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51B-C184-4B9E-B39D-135F141AE79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ESCRIPTION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t&gt;IP&lt;/dt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d&gt;Internet Protocol&lt;/dd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t&gt;TCP&lt;/dt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d&gt;Transmission Control Protocol&lt;/dd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d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4878360" cy="1895760"/>
          </a:xfrm>
          <a:prstGeom prst="rect">
            <a:avLst/>
          </a:prstGeom>
          <a:ln w="0">
            <a:noFill/>
          </a:ln>
        </p:spPr>
      </p:pic>
      <p:sp>
        <p:nvSpPr>
          <p:cNvPr id="67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A5D-1D17-4F71-85E1-FE1C8726E19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features of a heading element and how it configures the tex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difference between ordered lists and unordered list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purpose of the blockquote tag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64D8-75A0-488F-B504-196502A5A3B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094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Display special characters such as quotes, copyright symbol, etc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haracter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©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copy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lt;         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l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gt;         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amp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nbsp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SPECIAL CHARACT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EFA7-0030-4660-B8B9-4505E10A41D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V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figures a structural block area or “division” on a web page with empty space above and below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an contain other block display elements, including other div el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iv&gt;Home Services Contact&lt;/div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674-2F45-4C0B-A608-E1A829245E1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ANCHOR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13716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pecifies a hyperlink reference (href) to a fi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xt betwee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&gt;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a&gt;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s displayed on the web page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contact.html"&gt;Contact Us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ref Attribut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456480" indent="-2563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dicates the file name or URL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9D59-A21C-40DB-AD44-508E9CA51BE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HAT IS HTML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HTML: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The</a:t>
            </a:r>
            <a:r>
              <a:rPr b="1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set of markup symbols or codes placed in a file intended for display on a Web browser page.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World Wide Web Consortium (http://w3c.org) sets the standards for HTML and its related languages.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744-3A0D-47FB-BF3A-CBBA3A88E82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ABSOLUTE   &amp;  RELATIVE  HYPERLINK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600200" y="12952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bsolute link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2072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k to other  websi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http://yahoo.com"&gt;Yahoo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lative link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2072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k to pages on your own si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index.htm"&gt;Home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E182-5C94-47AC-A10F-816EB48827C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4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E-MAIL HYPERLIN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utomatically launch the default mail program configured for the browse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f no browser default is configured, a message is displayed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 href=“mailto:me@hotmail.com”&gt;me@hotmail.com&lt;/a&gt;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E88-57E6-40DD-BEF6-D603E4E4F2F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HYPERLINK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E680-1FCE-4FC1-9672-A69AEB0DF68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61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ands-On Practi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92" name="Picture 1" descr="Figure2"/>
          <p:cNvPicPr/>
          <p:nvPr/>
        </p:nvPicPr>
        <p:blipFill>
          <a:blip r:embed="rId1"/>
          <a:stretch/>
        </p:blipFill>
        <p:spPr>
          <a:xfrm>
            <a:off x="1828800" y="2743200"/>
            <a:ext cx="497196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9bbb5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 MT"/>
              </a:rPr>
              <a:t>Describe the purpose of special character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when to use an absolute link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Is the http protocol used in the href value?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when to use a relative link. Is the http protocol used in the href value?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AB4-50A9-4417-9A53-FBD63E71E49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RITING VALID XHTM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33520" y="129492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heck your code for syntax erro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enefit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alid code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more consistent browser displa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3C XHTML Validation Too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validator.w3.or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8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1FA-C43F-4FE8-9C8F-8C93965C0DF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52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is chapter provided an introduction to HTM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You will use these skills over and over again as you create web pag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7CED-472D-4223-BBF2-1ADCC8A44B9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ML EL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ach markup code represents an HTML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element 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ach element has a purpose.</a:t>
            </a:r>
            <a:br>
              <a:rPr sz="2800"/>
            </a:b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ost elements are coded as a pair of tag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 opening tag and a closing ta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ags are enclosed in angle brackets,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" and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" symbol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292C-3AEF-41E8-A271-2869D9FABB9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HAT IS XHTML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9903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most recent standard version of HTML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nsible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yper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xt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rkup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guag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use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elements and attributes of HTM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syntax of XML (e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nsible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rkup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guage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4795-4A55-4545-9A3F-34E05E3517E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XML SYNTA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An XML document must be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well-formed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Use lowercas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Use opening and closing tag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    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Close stand-alone tag with special synta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r  /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9ECA-476E-4643-9696-7C1B6CDDD9C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HAT  IS  HTML5 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Newest draft version of HTML/XHTM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upported by modern browse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afari, Google Chrome, Firefox, Internet Explorer 9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tended to be backwards compati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dds new el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dds new functiona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dit form dat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Native video and audi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nd more!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7418-C647-4ABA-BDE4-507AA9DBAD1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" name="Picture 2" descr="http://t0.gstatic.com/images?q=tbn:ANd9GcTWC3XDuJB3kXc4l_ojUXhUx6NMmtZ0LZYmnraeL9358pZJNaqG"/>
          <p:cNvPicPr/>
          <p:nvPr/>
        </p:nvPicPr>
        <p:blipFill>
          <a:blip r:embed="rId1"/>
          <a:stretch/>
        </p:blipFill>
        <p:spPr>
          <a:xfrm>
            <a:off x="5715000" y="3733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DOCUMENT   TYPE  DEFIN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Document Type Definition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DTD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octype state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dentifies the version of HTML contained in your documen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laced at the top of a web page docu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D0C-0568-4A47-95D6-E07DD68AA49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DTD EXAMPL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24242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09120" y="17524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288000" indent="-22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1.0 Transitional DT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 PUBLIC "-//W3C//DTD XHTML 1.0 Transitional//EN"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3.org/TR/xhtml1/DTD/xhtml1-transitional.dtd&gt;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ML5 DT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9EA-C448-453B-9A43-66D093C21F9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2:49:49Z</dcterms:created>
  <dc:creator>Terry Felke-Morris</dc:creator>
  <dc:description/>
  <dc:language>en-US</dc:language>
  <cp:lastModifiedBy>Paradise, Cheryl</cp:lastModifiedBy>
  <dcterms:modified xsi:type="dcterms:W3CDTF">2013-09-19T11:50:59Z</dcterms:modified>
  <cp:revision>65</cp:revision>
  <dc:subject>Chapter 1</dc:subject>
  <dc:title>Web Developer &amp; Design Foundations with XHTML</dc:title>
</cp:coreProperties>
</file>